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2981-0EA9-4868-BB93-2A2E5495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800-C6AD-4A45-8EDB-F4573F7EEC5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786-AD68-492A-814E-92F3636A3D7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4734-C5A0-4BCB-88EA-3E9728CB065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15B-FA9B-4114-BDD5-464721EEA76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C0E0-84AF-41A8-BC44-BD469F45276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E57-D755-4A80-8574-ED4881B32E5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35A3-CA98-4630-8F7C-05468DB4270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8B8-F6EB-44DE-974E-AB2C40639B1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13B-47B3-46E2-A137-8100D9A190B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F084-22B6-46EB-8402-4BF61975D89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27CB-EA20-4E5F-AB1E-F4EBCA4AB34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9E57-69B4-41F1-934A-0CD41797F31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6D85-FA62-4911-AA7D-97BC34D65E2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1B9-7AFC-4912-A026-3AC68823F04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E4D-829D-4346-96FA-AA65D7AD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9F4-463C-422D-BB9B-B709AC1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588-37B1-43FA-A2BE-25E99B60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30B-3F98-40CD-BD94-FC0C332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E82-B0E4-4983-9DC8-BF18A15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6C0-1EBA-402F-AE11-C197BF61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516-8D1E-408E-826B-19BAA05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075-96D2-46F6-A9DE-1E0632A6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CC3-D450-48DB-8D32-3DDE518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159-484A-4DCA-ADF7-BFDD61E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62F-5844-4276-A552-4873498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B8B-211B-4C73-94F3-5FC8143B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584B-2334-4376-9019-4DC89580654E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Verdana"/>
              </a:rPr>
              <a:t>Basic Geometry Review-Shapes and Angles</a:t>
            </a:r>
            <a:endParaRPr b="1" lang="en-US" sz="6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Obtuse Angle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7524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ngle that is larger than 90 degrees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2540160" y="3413160"/>
            <a:ext cx="3936960" cy="2047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2666880" y="55627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misterteacher.com/alphabetgeometry/obtuseangles.html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838080" y="5029200"/>
            <a:ext cx="2590920" cy="763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AutoShape 10">
            <a:hlinkClick r:id="" action="ppaction://hlinkshowjump?jump=nextslide"/>
          </p:cNvPr>
          <p:cNvSpPr/>
          <p:nvPr/>
        </p:nvSpPr>
        <p:spPr>
          <a:xfrm>
            <a:off x="746748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at type of shapes have obtuse angles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5248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ost common: Tri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2209680" y="3429000"/>
            <a:ext cx="0" cy="12193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209680" y="4648320"/>
            <a:ext cx="1905120" cy="15238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209680" y="3505320"/>
            <a:ext cx="1905120" cy="26668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2361960" y="4572000"/>
            <a:ext cx="24382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181480" y="3733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s angle is obtuse because it is larger than 90 degre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629400" y="556272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2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2" y="20200"/>
                </a:lnTo>
                <a:lnTo>
                  <a:pt x="37172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2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2" h="21600">
                <a:moveTo>
                  <a:pt x="19286" y="3837"/>
                </a:moveTo>
                <a:lnTo>
                  <a:pt x="21863" y="6448"/>
                </a:lnTo>
                <a:lnTo>
                  <a:pt x="21863" y="4707"/>
                </a:lnTo>
                <a:lnTo>
                  <a:pt x="23638" y="4707"/>
                </a:lnTo>
                <a:lnTo>
                  <a:pt x="23638" y="8224"/>
                </a:lnTo>
                <a:lnTo>
                  <a:pt x="26249" y="10800"/>
                </a:lnTo>
                <a:lnTo>
                  <a:pt x="24595" y="10800"/>
                </a:lnTo>
                <a:lnTo>
                  <a:pt x="24595" y="17989"/>
                </a:lnTo>
                <a:lnTo>
                  <a:pt x="13977" y="17989"/>
                </a:lnTo>
                <a:lnTo>
                  <a:pt x="13977" y="10800"/>
                </a:lnTo>
                <a:lnTo>
                  <a:pt x="12323" y="10800"/>
                </a:lnTo>
                <a:close/>
              </a:path>
              <a:path fill="darkenLess" w="38572" h="21600">
                <a:moveTo>
                  <a:pt x="21863" y="6448"/>
                </a:moveTo>
                <a:lnTo>
                  <a:pt x="21863" y="4707"/>
                </a:lnTo>
                <a:lnTo>
                  <a:pt x="23638" y="4707"/>
                </a:lnTo>
                <a:lnTo>
                  <a:pt x="23638" y="8224"/>
                </a:lnTo>
                <a:close/>
              </a:path>
              <a:path fill="darkenLess" w="38572" h="21600">
                <a:moveTo>
                  <a:pt x="18364" y="14299"/>
                </a:moveTo>
                <a:lnTo>
                  <a:pt x="20209" y="14299"/>
                </a:lnTo>
                <a:lnTo>
                  <a:pt x="20209" y="17989"/>
                </a:lnTo>
                <a:lnTo>
                  <a:pt x="24595" y="17989"/>
                </a:lnTo>
                <a:lnTo>
                  <a:pt x="24595" y="10800"/>
                </a:lnTo>
                <a:lnTo>
                  <a:pt x="13977" y="10800"/>
                </a:lnTo>
                <a:lnTo>
                  <a:pt x="13977" y="17989"/>
                </a:lnTo>
                <a:lnTo>
                  <a:pt x="18364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Right Angl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048120" y="595944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commons.wikimedia.org/wiki/File:Right_angle.svg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85800" y="1676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ngle that measures 90 degrees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609480" y="5334120"/>
            <a:ext cx="2438640" cy="7596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AutoShape 8">
            <a:hlinkClick r:id="" action="ppaction://hlinkshowjump?jump=nextslide"/>
          </p:cNvPr>
          <p:cNvSpPr/>
          <p:nvPr/>
        </p:nvSpPr>
        <p:spPr>
          <a:xfrm>
            <a:off x="7238880" y="5105520"/>
            <a:ext cx="1524240" cy="1371600"/>
          </a:xfrm>
          <a:custGeom>
            <a:avLst/>
            <a:gdLst>
              <a:gd name="textAreaLeft" fmla="*/ 88920 w 1524240"/>
              <a:gd name="textAreaRight" fmla="*/ 1435320 w 152424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What types of shapes have right angles?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57200" y="3990960"/>
            <a:ext cx="3174840" cy="1952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1260360" y="598788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www.star-ed.com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4456080" y="3124080"/>
            <a:ext cx="1639800" cy="164016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4952880" y="327672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5562720" y="327672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4876920" y="43434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4572000" y="36576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4495320" y="4343400"/>
            <a:ext cx="3812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H="1">
            <a:off x="5562720" y="36576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H="1">
            <a:off x="5562720" y="42670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419720" y="4952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33520" y="3321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ight Tri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7" name="Picture 17" descr=""/>
          <p:cNvPicPr/>
          <p:nvPr/>
        </p:nvPicPr>
        <p:blipFill>
          <a:blip r:embed="rId3"/>
          <a:stretch/>
        </p:blipFill>
        <p:spPr>
          <a:xfrm>
            <a:off x="7162920" y="2971800"/>
            <a:ext cx="1447560" cy="2440080"/>
          </a:xfrm>
          <a:prstGeom prst="rect">
            <a:avLst/>
          </a:prstGeom>
          <a:ln w="0">
            <a:noFill/>
          </a:ln>
        </p:spPr>
      </p:pic>
      <p:sp>
        <p:nvSpPr>
          <p:cNvPr id="188" name="Line 18"/>
          <p:cNvSpPr/>
          <p:nvPr/>
        </p:nvSpPr>
        <p:spPr>
          <a:xfrm flipH="1">
            <a:off x="7162920" y="33526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7162920" y="50292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8229600" y="33526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H="1">
            <a:off x="8229600" y="50292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7543800" y="50292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7543800" y="29718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8229600" y="29718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8229600" y="50292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68580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ct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AutoShape 27"/>
          <p:cNvSpPr/>
          <p:nvPr/>
        </p:nvSpPr>
        <p:spPr>
          <a:xfrm>
            <a:off x="4419720" y="5791320"/>
            <a:ext cx="1981080" cy="838080"/>
          </a:xfrm>
          <a:custGeom>
            <a:avLst/>
            <a:gdLst>
              <a:gd name="textAreaLeft" fmla="*/ 54000 w 1981080"/>
              <a:gd name="textAreaRight" fmla="*/ 1927080 w 1981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46" h="21600">
                <a:moveTo>
                  <a:pt x="0" y="0"/>
                </a:moveTo>
                <a:lnTo>
                  <a:pt x="51046" y="0"/>
                </a:lnTo>
                <a:lnTo>
                  <a:pt x="51046" y="21600"/>
                </a:lnTo>
                <a:lnTo>
                  <a:pt x="0" y="21600"/>
                </a:lnTo>
                <a:close/>
              </a:path>
              <a:path fill="lightenLess" w="51046" h="21600">
                <a:moveTo>
                  <a:pt x="0" y="0"/>
                </a:moveTo>
                <a:lnTo>
                  <a:pt x="51046" y="0"/>
                </a:lnTo>
                <a:lnTo>
                  <a:pt x="49646" y="1400"/>
                </a:lnTo>
                <a:lnTo>
                  <a:pt x="1400" y="1400"/>
                </a:lnTo>
                <a:close/>
              </a:path>
              <a:path fill="darken" w="51046" h="21600">
                <a:moveTo>
                  <a:pt x="51046" y="0"/>
                </a:moveTo>
                <a:lnTo>
                  <a:pt x="51046" y="21600"/>
                </a:lnTo>
                <a:lnTo>
                  <a:pt x="49646" y="20200"/>
                </a:lnTo>
                <a:lnTo>
                  <a:pt x="49646" y="1400"/>
                </a:lnTo>
                <a:close/>
              </a:path>
              <a:path fill="darkenLess" w="51046" h="21600">
                <a:moveTo>
                  <a:pt x="51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46" y="20200"/>
                </a:lnTo>
                <a:close/>
              </a:path>
              <a:path fill="lighten" w="51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46" h="21600">
                <a:moveTo>
                  <a:pt x="25523" y="3837"/>
                </a:moveTo>
                <a:lnTo>
                  <a:pt x="28099" y="6448"/>
                </a:lnTo>
                <a:lnTo>
                  <a:pt x="28099" y="4707"/>
                </a:lnTo>
                <a:lnTo>
                  <a:pt x="29875" y="4707"/>
                </a:lnTo>
                <a:lnTo>
                  <a:pt x="29875" y="8224"/>
                </a:lnTo>
                <a:lnTo>
                  <a:pt x="32486" y="10800"/>
                </a:lnTo>
                <a:lnTo>
                  <a:pt x="30832" y="10800"/>
                </a:lnTo>
                <a:lnTo>
                  <a:pt x="30832" y="17989"/>
                </a:lnTo>
                <a:lnTo>
                  <a:pt x="20214" y="17989"/>
                </a:lnTo>
                <a:lnTo>
                  <a:pt x="20214" y="10800"/>
                </a:lnTo>
                <a:lnTo>
                  <a:pt x="18560" y="10800"/>
                </a:lnTo>
                <a:close/>
              </a:path>
              <a:path fill="darkenLess" w="51046" h="21600">
                <a:moveTo>
                  <a:pt x="28099" y="6448"/>
                </a:moveTo>
                <a:lnTo>
                  <a:pt x="28099" y="4707"/>
                </a:lnTo>
                <a:lnTo>
                  <a:pt x="29875" y="4707"/>
                </a:lnTo>
                <a:lnTo>
                  <a:pt x="29875" y="8224"/>
                </a:lnTo>
                <a:close/>
              </a:path>
              <a:path fill="darkenLess" w="51046" h="21600">
                <a:moveTo>
                  <a:pt x="24600" y="14299"/>
                </a:moveTo>
                <a:lnTo>
                  <a:pt x="26446" y="14299"/>
                </a:lnTo>
                <a:lnTo>
                  <a:pt x="26446" y="17989"/>
                </a:lnTo>
                <a:lnTo>
                  <a:pt x="30832" y="17989"/>
                </a:lnTo>
                <a:lnTo>
                  <a:pt x="30832" y="10800"/>
                </a:lnTo>
                <a:lnTo>
                  <a:pt x="20214" y="10800"/>
                </a:lnTo>
                <a:lnTo>
                  <a:pt x="20214" y="17989"/>
                </a:lnTo>
                <a:lnTo>
                  <a:pt x="24600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Finished?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295280" y="19051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You have now successfully reviewed your basic geometric shapes and angle names!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505320" cy="23529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>
            <a:off x="7238880" y="56386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7442" y="3837"/>
                </a:moveTo>
                <a:lnTo>
                  <a:pt x="20018" y="6448"/>
                </a:lnTo>
                <a:lnTo>
                  <a:pt x="20018" y="4707"/>
                </a:lnTo>
                <a:lnTo>
                  <a:pt x="21793" y="4707"/>
                </a:lnTo>
                <a:lnTo>
                  <a:pt x="21793" y="8224"/>
                </a:lnTo>
                <a:lnTo>
                  <a:pt x="24405" y="10800"/>
                </a:lnTo>
                <a:lnTo>
                  <a:pt x="22751" y="10800"/>
                </a:lnTo>
                <a:lnTo>
                  <a:pt x="22751" y="17989"/>
                </a:lnTo>
                <a:lnTo>
                  <a:pt x="12132" y="17989"/>
                </a:lnTo>
                <a:lnTo>
                  <a:pt x="12132" y="10800"/>
                </a:lnTo>
                <a:lnTo>
                  <a:pt x="10479" y="10800"/>
                </a:lnTo>
                <a:close/>
              </a:path>
              <a:path fill="darkenLess" w="34883" h="21600">
                <a:moveTo>
                  <a:pt x="20018" y="6448"/>
                </a:moveTo>
                <a:lnTo>
                  <a:pt x="20018" y="4707"/>
                </a:lnTo>
                <a:lnTo>
                  <a:pt x="21793" y="4707"/>
                </a:lnTo>
                <a:lnTo>
                  <a:pt x="21793" y="8224"/>
                </a:lnTo>
                <a:close/>
              </a:path>
              <a:path fill="darkenLess" w="34883" h="21600">
                <a:moveTo>
                  <a:pt x="16519" y="14299"/>
                </a:moveTo>
                <a:lnTo>
                  <a:pt x="18364" y="14299"/>
                </a:lnTo>
                <a:lnTo>
                  <a:pt x="18364" y="17989"/>
                </a:lnTo>
                <a:lnTo>
                  <a:pt x="22751" y="17989"/>
                </a:lnTo>
                <a:lnTo>
                  <a:pt x="22751" y="10800"/>
                </a:lnTo>
                <a:lnTo>
                  <a:pt x="12132" y="10800"/>
                </a:lnTo>
                <a:lnTo>
                  <a:pt x="12132" y="17989"/>
                </a:lnTo>
                <a:lnTo>
                  <a:pt x="16519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Review Topic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1523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quare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3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6320" y="3657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ctangle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362320" y="48006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olygon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160960" y="1514520"/>
            <a:ext cx="192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422600" y="1584360"/>
            <a:ext cx="32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Obtuse Ang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495680" y="265104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cute Ang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572000" y="379404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ight Ang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AutoShape 16">
            <a:hlinkClick r:id="rId1" action="ppaction://hlinksldjump"/>
          </p:cNvPr>
          <p:cNvSpPr/>
          <p:nvPr/>
        </p:nvSpPr>
        <p:spPr>
          <a:xfrm>
            <a:off x="2666880" y="1523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1981080" y="1905120"/>
            <a:ext cx="6098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2286000" y="297180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4724280" y="5181480"/>
            <a:ext cx="6098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AutoShape 21">
            <a:hlinkClick r:id="rId2" action="ppaction://hlinksldjump"/>
          </p:cNvPr>
          <p:cNvSpPr/>
          <p:nvPr/>
        </p:nvSpPr>
        <p:spPr>
          <a:xfrm>
            <a:off x="2971800" y="25909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AutoShape 22">
            <a:hlinkClick r:id="rId3" action="ppaction://hlinksldjump"/>
          </p:cNvPr>
          <p:cNvSpPr/>
          <p:nvPr/>
        </p:nvSpPr>
        <p:spPr>
          <a:xfrm>
            <a:off x="3429000" y="3733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7391520" y="304812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7620120" y="198108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AutoShape 28">
            <a:hlinkClick r:id="rId4" action="ppaction://hlinksldjump"/>
          </p:cNvPr>
          <p:cNvSpPr/>
          <p:nvPr/>
        </p:nvSpPr>
        <p:spPr>
          <a:xfrm>
            <a:off x="5486400" y="4876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AutoShape 30">
            <a:hlinkClick r:id="rId5" action="ppaction://hlinksldjump"/>
          </p:cNvPr>
          <p:cNvSpPr/>
          <p:nvPr/>
        </p:nvSpPr>
        <p:spPr>
          <a:xfrm>
            <a:off x="8077320" y="2819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AutoShape 31">
            <a:hlinkClick r:id="rId6" action="ppaction://hlinksldjump"/>
          </p:cNvPr>
          <p:cNvSpPr/>
          <p:nvPr/>
        </p:nvSpPr>
        <p:spPr>
          <a:xfrm>
            <a:off x="8305920" y="1676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AutoShape 32">
            <a:hlinkClick r:id="rId7" action="ppaction://hlinksldjump"/>
          </p:cNvPr>
          <p:cNvSpPr/>
          <p:nvPr/>
        </p:nvSpPr>
        <p:spPr>
          <a:xfrm>
            <a:off x="8153280" y="3962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676520" y="58672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inished?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AutoShape 34">
            <a:hlinkClick r:id="rId8" action="ppaction://hlinksldjump"/>
          </p:cNvPr>
          <p:cNvSpPr/>
          <p:nvPr/>
        </p:nvSpPr>
        <p:spPr>
          <a:xfrm>
            <a:off x="495288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4191120" y="624852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Square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124440" cy="3124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sp>
        <p:nvSpPr>
          <p:cNvPr id="83" name="Text Box 5"/>
          <p:cNvSpPr/>
          <p:nvPr/>
        </p:nvSpPr>
        <p:spPr>
          <a:xfrm>
            <a:off x="380880" y="1447920"/>
            <a:ext cx="4876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Each one of the sides of a square are equal to each other.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The angles of the square are 90 degrees each.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The total angle sum of a square is 360 degrees.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6019920" y="5181480"/>
            <a:ext cx="2286000" cy="1295640"/>
          </a:xfrm>
          <a:custGeom>
            <a:avLst/>
            <a:gdLst>
              <a:gd name="textAreaLeft" fmla="*/ 83880 w 2286000"/>
              <a:gd name="textAreaRight" fmla="*/ 2202120 w 228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8106" h="21600">
                <a:moveTo>
                  <a:pt x="0" y="0"/>
                </a:moveTo>
                <a:lnTo>
                  <a:pt x="38106" y="0"/>
                </a:lnTo>
                <a:lnTo>
                  <a:pt x="38106" y="21600"/>
                </a:lnTo>
                <a:lnTo>
                  <a:pt x="0" y="21600"/>
                </a:lnTo>
                <a:close/>
              </a:path>
              <a:path fill="lightenLess" w="38106" h="21600">
                <a:moveTo>
                  <a:pt x="0" y="0"/>
                </a:moveTo>
                <a:lnTo>
                  <a:pt x="38106" y="0"/>
                </a:lnTo>
                <a:lnTo>
                  <a:pt x="36706" y="1400"/>
                </a:lnTo>
                <a:lnTo>
                  <a:pt x="1400" y="1400"/>
                </a:lnTo>
                <a:close/>
              </a:path>
              <a:path fill="darken" w="38106" h="21600">
                <a:moveTo>
                  <a:pt x="38106" y="0"/>
                </a:moveTo>
                <a:lnTo>
                  <a:pt x="38106" y="21600"/>
                </a:lnTo>
                <a:lnTo>
                  <a:pt x="36706" y="20200"/>
                </a:lnTo>
                <a:lnTo>
                  <a:pt x="36706" y="1400"/>
                </a:lnTo>
                <a:close/>
              </a:path>
              <a:path fill="darkenLess" w="38106" h="21600">
                <a:moveTo>
                  <a:pt x="38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06" y="20200"/>
                </a:lnTo>
                <a:close/>
              </a:path>
              <a:path fill="lighten" w="38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06" h="21600">
                <a:moveTo>
                  <a:pt x="19053" y="3837"/>
                </a:moveTo>
                <a:lnTo>
                  <a:pt x="21629" y="6448"/>
                </a:lnTo>
                <a:lnTo>
                  <a:pt x="21629" y="4707"/>
                </a:lnTo>
                <a:lnTo>
                  <a:pt x="23405" y="4707"/>
                </a:lnTo>
                <a:lnTo>
                  <a:pt x="23405" y="8224"/>
                </a:lnTo>
                <a:lnTo>
                  <a:pt x="26016" y="10800"/>
                </a:lnTo>
                <a:lnTo>
                  <a:pt x="24362" y="10800"/>
                </a:lnTo>
                <a:lnTo>
                  <a:pt x="24362" y="17989"/>
                </a:lnTo>
                <a:lnTo>
                  <a:pt x="13744" y="17989"/>
                </a:lnTo>
                <a:lnTo>
                  <a:pt x="13744" y="10800"/>
                </a:lnTo>
                <a:lnTo>
                  <a:pt x="12090" y="10800"/>
                </a:lnTo>
                <a:close/>
              </a:path>
              <a:path fill="darkenLess" w="38106" h="21600">
                <a:moveTo>
                  <a:pt x="21629" y="6448"/>
                </a:moveTo>
                <a:lnTo>
                  <a:pt x="21629" y="4707"/>
                </a:lnTo>
                <a:lnTo>
                  <a:pt x="23405" y="4707"/>
                </a:lnTo>
                <a:lnTo>
                  <a:pt x="23405" y="8224"/>
                </a:lnTo>
                <a:close/>
              </a:path>
              <a:path fill="darkenLess" w="38106" h="21600">
                <a:moveTo>
                  <a:pt x="18130" y="14299"/>
                </a:moveTo>
                <a:lnTo>
                  <a:pt x="19976" y="14299"/>
                </a:lnTo>
                <a:lnTo>
                  <a:pt x="19976" y="17989"/>
                </a:lnTo>
                <a:lnTo>
                  <a:pt x="24362" y="17989"/>
                </a:lnTo>
                <a:lnTo>
                  <a:pt x="24362" y="10800"/>
                </a:lnTo>
                <a:lnTo>
                  <a:pt x="13744" y="10800"/>
                </a:lnTo>
                <a:lnTo>
                  <a:pt x="13744" y="17989"/>
                </a:lnTo>
                <a:lnTo>
                  <a:pt x="18130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Triangle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063600" cy="2655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962520" y="1676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581280" y="1295280"/>
            <a:ext cx="5334120" cy="53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n a triangle, the sides do not have to be the same length.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ere are four types of triangles: right triangle, isosceles triangle, equilateral triangle, and scalene triangle.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e angle sum of the triangle has to add up to 180 degrees.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AutoShape 8">
            <a:hlinkClick r:id="rId2" action="ppaction://hlinksldjump"/>
          </p:cNvPr>
          <p:cNvSpPr/>
          <p:nvPr/>
        </p:nvSpPr>
        <p:spPr>
          <a:xfrm>
            <a:off x="762120" y="5257800"/>
            <a:ext cx="2057400" cy="1371600"/>
          </a:xfrm>
          <a:custGeom>
            <a:avLst/>
            <a:gdLst>
              <a:gd name="textAreaLeft" fmla="*/ 88920 w 2057400"/>
              <a:gd name="textAreaRight" fmla="*/ 1968480 w 20574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2397" h="21600">
                <a:moveTo>
                  <a:pt x="0" y="0"/>
                </a:moveTo>
                <a:lnTo>
                  <a:pt x="32397" y="0"/>
                </a:lnTo>
                <a:lnTo>
                  <a:pt x="32397" y="21600"/>
                </a:lnTo>
                <a:lnTo>
                  <a:pt x="0" y="21600"/>
                </a:lnTo>
                <a:close/>
              </a:path>
              <a:path fill="lightenLess" w="32397" h="21600">
                <a:moveTo>
                  <a:pt x="0" y="0"/>
                </a:moveTo>
                <a:lnTo>
                  <a:pt x="32397" y="0"/>
                </a:lnTo>
                <a:lnTo>
                  <a:pt x="30997" y="1400"/>
                </a:lnTo>
                <a:lnTo>
                  <a:pt x="1400" y="1400"/>
                </a:lnTo>
                <a:close/>
              </a:path>
              <a:path fill="darken" w="32397" h="21600">
                <a:moveTo>
                  <a:pt x="32397" y="0"/>
                </a:moveTo>
                <a:lnTo>
                  <a:pt x="32397" y="21600"/>
                </a:lnTo>
                <a:lnTo>
                  <a:pt x="30997" y="20200"/>
                </a:lnTo>
                <a:lnTo>
                  <a:pt x="30997" y="1400"/>
                </a:lnTo>
                <a:close/>
              </a:path>
              <a:path fill="darkenLess" w="32397" h="21600">
                <a:moveTo>
                  <a:pt x="32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7" y="20200"/>
                </a:lnTo>
                <a:close/>
              </a:path>
              <a:path fill="lighten" w="32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7" h="21600">
                <a:moveTo>
                  <a:pt x="16199" y="3837"/>
                </a:moveTo>
                <a:lnTo>
                  <a:pt x="18775" y="6448"/>
                </a:lnTo>
                <a:lnTo>
                  <a:pt x="18775" y="4707"/>
                </a:lnTo>
                <a:lnTo>
                  <a:pt x="20550" y="4707"/>
                </a:lnTo>
                <a:lnTo>
                  <a:pt x="20550" y="8224"/>
                </a:lnTo>
                <a:lnTo>
                  <a:pt x="23162" y="10800"/>
                </a:lnTo>
                <a:lnTo>
                  <a:pt x="21508" y="10800"/>
                </a:lnTo>
                <a:lnTo>
                  <a:pt x="21508" y="17989"/>
                </a:lnTo>
                <a:lnTo>
                  <a:pt x="10889" y="17989"/>
                </a:lnTo>
                <a:lnTo>
                  <a:pt x="10889" y="10800"/>
                </a:lnTo>
                <a:lnTo>
                  <a:pt x="9236" y="10800"/>
                </a:lnTo>
                <a:close/>
              </a:path>
              <a:path fill="darkenLess" w="32397" h="21600">
                <a:moveTo>
                  <a:pt x="18775" y="6448"/>
                </a:moveTo>
                <a:lnTo>
                  <a:pt x="18775" y="4707"/>
                </a:lnTo>
                <a:lnTo>
                  <a:pt x="20550" y="4707"/>
                </a:lnTo>
                <a:lnTo>
                  <a:pt x="20550" y="8224"/>
                </a:lnTo>
                <a:close/>
              </a:path>
              <a:path fill="darkenLess" w="32397" h="21600">
                <a:moveTo>
                  <a:pt x="15276" y="14299"/>
                </a:moveTo>
                <a:lnTo>
                  <a:pt x="17121" y="14299"/>
                </a:lnTo>
                <a:lnTo>
                  <a:pt x="17121" y="17989"/>
                </a:lnTo>
                <a:lnTo>
                  <a:pt x="21508" y="17989"/>
                </a:lnTo>
                <a:lnTo>
                  <a:pt x="21508" y="10800"/>
                </a:lnTo>
                <a:lnTo>
                  <a:pt x="10889" y="10800"/>
                </a:lnTo>
                <a:lnTo>
                  <a:pt x="10889" y="17989"/>
                </a:lnTo>
                <a:lnTo>
                  <a:pt x="15276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Rectangle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286000" y="1609560"/>
            <a:ext cx="4692600" cy="981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533520" y="320040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ctangles have opposite sides that are equal, so side A=C and B=D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one of the angles of a rectangle is 90 degrees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angle sum of a rectangle is 360 degrees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371600" y="1600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67652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16292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1148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1148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AutoShape 13">
            <a:hlinkClick r:id="rId2" action="ppaction://hlinksldjump"/>
          </p:cNvPr>
          <p:cNvSpPr/>
          <p:nvPr/>
        </p:nvSpPr>
        <p:spPr>
          <a:xfrm>
            <a:off x="7620120" y="5334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Polygon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0" t="-814" r="5233" b="0"/>
          <a:stretch/>
        </p:blipFill>
        <p:spPr>
          <a:xfrm>
            <a:off x="1066680" y="2286000"/>
            <a:ext cx="272268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11430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Every Day Shapes: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47920" y="5562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Octagon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rcRect l="19563" t="11469" r="20635" b="8305"/>
          <a:stretch/>
        </p:blipFill>
        <p:spPr>
          <a:xfrm>
            <a:off x="5214960" y="2209680"/>
            <a:ext cx="2066760" cy="2895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5181480" y="5546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entagon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AutoShape 10">
            <a:hlinkClick r:id="" action="ppaction://hlinkshowjump?jump=nextslide"/>
          </p:cNvPr>
          <p:cNvSpPr/>
          <p:nvPr/>
        </p:nvSpPr>
        <p:spPr>
          <a:xfrm>
            <a:off x="7772400" y="57150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19604" y="10800"/>
                </a:lnTo>
                <a:lnTo>
                  <a:pt x="5591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Polygon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lygons are named according to the number of sides that they have.  For example: Pentagon, pent=5 sid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19563" t="11469" r="20635" b="8305"/>
          <a:stretch/>
        </p:blipFill>
        <p:spPr>
          <a:xfrm>
            <a:off x="2819520" y="2666880"/>
            <a:ext cx="206676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2514600" y="3657600"/>
            <a:ext cx="0" cy="17524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2514240" y="2438280"/>
            <a:ext cx="1219320" cy="9144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257800" y="3809880"/>
            <a:ext cx="0" cy="175284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2895120" y="5638680"/>
            <a:ext cx="205740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114800" y="2438280"/>
            <a:ext cx="1066680" cy="106704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 flipH="1">
            <a:off x="3581280" y="58672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 flipH="1">
            <a:off x="5562000" y="42670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 flipH="1">
            <a:off x="5028480" y="2438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 flipH="1">
            <a:off x="1675800" y="40384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flipH="1">
            <a:off x="2208960" y="2362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6934320" y="525780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15247" y="3837"/>
                </a:moveTo>
                <a:lnTo>
                  <a:pt x="17824" y="6448"/>
                </a:lnTo>
                <a:lnTo>
                  <a:pt x="17824" y="4707"/>
                </a:lnTo>
                <a:lnTo>
                  <a:pt x="19599" y="4707"/>
                </a:lnTo>
                <a:lnTo>
                  <a:pt x="19599" y="8224"/>
                </a:lnTo>
                <a:lnTo>
                  <a:pt x="22210" y="10800"/>
                </a:lnTo>
                <a:lnTo>
                  <a:pt x="20556" y="10800"/>
                </a:lnTo>
                <a:lnTo>
                  <a:pt x="20556" y="17989"/>
                </a:lnTo>
                <a:lnTo>
                  <a:pt x="9938" y="17989"/>
                </a:lnTo>
                <a:lnTo>
                  <a:pt x="9938" y="10800"/>
                </a:lnTo>
                <a:lnTo>
                  <a:pt x="8284" y="10800"/>
                </a:lnTo>
                <a:close/>
              </a:path>
              <a:path fill="darkenLess" w="30494" h="21600">
                <a:moveTo>
                  <a:pt x="17824" y="6448"/>
                </a:moveTo>
                <a:lnTo>
                  <a:pt x="17824" y="4707"/>
                </a:lnTo>
                <a:lnTo>
                  <a:pt x="19599" y="4707"/>
                </a:lnTo>
                <a:lnTo>
                  <a:pt x="19599" y="8224"/>
                </a:lnTo>
                <a:close/>
              </a:path>
              <a:path fill="darkenLess" w="30494" h="21600">
                <a:moveTo>
                  <a:pt x="14325" y="14299"/>
                </a:moveTo>
                <a:lnTo>
                  <a:pt x="16170" y="14299"/>
                </a:lnTo>
                <a:lnTo>
                  <a:pt x="16170" y="17989"/>
                </a:lnTo>
                <a:lnTo>
                  <a:pt x="20556" y="17989"/>
                </a:lnTo>
                <a:lnTo>
                  <a:pt x="20556" y="10800"/>
                </a:lnTo>
                <a:lnTo>
                  <a:pt x="9938" y="10800"/>
                </a:lnTo>
                <a:lnTo>
                  <a:pt x="9938" y="17989"/>
                </a:lnTo>
                <a:lnTo>
                  <a:pt x="14325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Acute Angle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520" y="1752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ngle that is smaller than 90 degrees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>
            <a:off x="609480" y="4648320"/>
            <a:ext cx="27432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AutoShape 8">
            <a:hlinkClick r:id="" action="ppaction://hlinkshowjump?jump=nextslide"/>
          </p:cNvPr>
          <p:cNvSpPr/>
          <p:nvPr/>
        </p:nvSpPr>
        <p:spPr>
          <a:xfrm>
            <a:off x="7772400" y="556272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at types of shapes have acute angles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330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ost common: Tri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4648320" y="3505320"/>
            <a:ext cx="1904760" cy="243828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572000"/>
            <a:ext cx="1904760" cy="121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33520" y="3276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 this triangle, all three angles are less than 90 degre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V="1">
            <a:off x="2743200" y="3657600"/>
            <a:ext cx="2819520" cy="9144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572000"/>
            <a:ext cx="3581280" cy="121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33520" y="54864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6:57:24Z</dcterms:created>
  <dc:creator>Meghan Kaifes</dc:creator>
  <dc:description/>
  <dc:language>en-US</dc:language>
  <cp:lastModifiedBy>Oklahoma State University</cp:lastModifiedBy>
  <dcterms:modified xsi:type="dcterms:W3CDTF">2009-03-02T23:08:27Z</dcterms:modified>
  <cp:revision>11</cp:revision>
  <dc:subject/>
  <dc:title>PowerPoint Presentation</dc:title>
</cp:coreProperties>
</file>